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9311-153D-4054-9294-9D44394529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EB5B-C342-4981-B9C4-28571B60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3A48-9E07-491F-A76B-F285FEB3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E244-5697-4268-9B22-F563E6182A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989-1263-4C77-B957-198045B34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6DD-173A-4546-A616-EC98B6B9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FAE-9805-4C57-A161-1FEB2699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543-2184-4257-999C-BF6A5ADC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661-0898-4FFB-99B0-B7A75761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5943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789-F156-4B1A-B0E9-1141BB2D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244-97CB-4F97-A198-C6B0623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DB44-004B-427D-88C5-F8022922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5B7-E77E-485F-87B0-169865A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3DF-55E5-4688-AD97-A32257E3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A24-6D5E-4D1A-930E-0B23024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D65-2766-4F1C-AE77-573421B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0AD-5985-4230-BB0E-E0D718621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5016-F580-4A7A-B93E-7B9015CA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C1FD-124A-4ABD-B5B9-CB5A265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11B8-9EF9-4670-A2B5-7BA63CCD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5943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756C-9C8D-4376-80D6-69122B20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9C4C-FBEF-4A75-80B4-E86F61A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D49C-66E4-4E26-AE24-628D3FFE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7B39-2E06-40EA-A3C4-4A8E38CF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38240"/>
            <a:ext cx="9145440" cy="100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8bc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822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231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222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222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222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4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22DC-AE6B-4D6E-90F9-F09943372118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8bc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2544-A4F2-4515-A035-700396FA2183}" type="slidenum">
              <a:rPr b="0" lang="en-US" sz="1200" spc="-1" strike="noStrike">
                <a:solidFill>
                  <a:srgbClr val="69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8bc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7391160" y="640044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8bc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27C-5A16-40CF-9941-625914FA1E05}" type="slidenum">
              <a:rPr b="0" lang="en-US" sz="1200" spc="-1" strike="noStrike">
                <a:solidFill>
                  <a:srgbClr val="69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22DD-3696-4010-9E2D-0B0FC28C2252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544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112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17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4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4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4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8600" y="15228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054E-3757-4AB9-8C54-2419582FA7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191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1600200"/>
            <a:ext cx="62485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DERAZION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onsiderazione più probabile è che manca la prevenzione e l’attenzione al trattamento di lesioni di 1°e 2°st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3581280"/>
            <a:ext cx="617220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DERAZION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onsiderazione più probabile è che l’assistenza fornita ai pazienti ad altissimo/alto rischio è att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148104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B9E9-7F15-403D-8E89-D72B4F808C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11430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Riepilogo per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523880"/>
          <a:ext cx="8457840" cy="4648320"/>
        </p:xfrm>
        <a:graphic>
          <a:graphicData uri="http://schemas.openxmlformats.org/drawingml/2006/table">
            <a:tbl>
              <a:tblPr/>
              <a:tblGrid>
                <a:gridCol w="1834560"/>
                <a:gridCol w="901800"/>
                <a:gridCol w="901800"/>
                <a:gridCol w="900000"/>
                <a:gridCol w="902160"/>
                <a:gridCol w="901800"/>
                <a:gridCol w="900000"/>
                <a:gridCol w="1215720"/>
              </a:tblGrid>
              <a:tr h="905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m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 Riabilit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ec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CC86-7BE0-41A2-B461-62710E965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04920" y="1447920"/>
          <a:ext cx="8381880" cy="4876560"/>
        </p:xfrm>
        <a:graphic>
          <a:graphicData uri="http://schemas.openxmlformats.org/drawingml/2006/table">
            <a:tbl>
              <a:tblPr/>
              <a:tblGrid>
                <a:gridCol w="1888920"/>
                <a:gridCol w="927360"/>
                <a:gridCol w="927000"/>
                <a:gridCol w="928440"/>
                <a:gridCol w="927360"/>
                <a:gridCol w="927000"/>
                <a:gridCol w="928800"/>
                <a:gridCol w="92700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m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 Riabilit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 Spi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E038-C44D-4F45-8E79-347DA9432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304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LDP  / Dati riepilogativi superf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91520" y="6286680"/>
            <a:ext cx="124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Garbag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295280"/>
          <a:ext cx="8610480" cy="4952880"/>
        </p:xfrm>
        <a:graphic>
          <a:graphicData uri="http://schemas.openxmlformats.org/drawingml/2006/table">
            <a:tbl>
              <a:tblPr/>
              <a:tblGrid>
                <a:gridCol w="1809720"/>
                <a:gridCol w="723960"/>
                <a:gridCol w="776160"/>
                <a:gridCol w="1036800"/>
                <a:gridCol w="709560"/>
                <a:gridCol w="711360"/>
                <a:gridCol w="711000"/>
                <a:gridCol w="711360"/>
                <a:gridCol w="709560"/>
                <a:gridCol w="711000"/>
              </a:tblGrid>
              <a:tr h="992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126504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65B4-A6D5-44D8-85D5-357DBE80CD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02960" y="22860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superficie utilizzata in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447920"/>
          <a:ext cx="8458200" cy="4889520"/>
        </p:xfrm>
        <a:graphic>
          <a:graphicData uri="http://schemas.openxmlformats.org/drawingml/2006/table">
            <a:tbl>
              <a:tblPr/>
              <a:tblGrid>
                <a:gridCol w="1882800"/>
                <a:gridCol w="822600"/>
                <a:gridCol w="822240"/>
                <a:gridCol w="822240"/>
                <a:gridCol w="820800"/>
                <a:gridCol w="820800"/>
                <a:gridCol w="822240"/>
                <a:gridCol w="987480"/>
                <a:gridCol w="657000"/>
              </a:tblGrid>
              <a:tr h="1372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 Riabilit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ec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8044-E308-4671-B61F-51FA917998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04920" y="1219320"/>
          <a:ext cx="8610120" cy="5257440"/>
        </p:xfrm>
        <a:graphic>
          <a:graphicData uri="http://schemas.openxmlformats.org/drawingml/2006/table">
            <a:tbl>
              <a:tblPr/>
              <a:tblGrid>
                <a:gridCol w="1916640"/>
                <a:gridCol w="837000"/>
                <a:gridCol w="836640"/>
                <a:gridCol w="654120"/>
                <a:gridCol w="985680"/>
                <a:gridCol w="986040"/>
                <a:gridCol w="720360"/>
                <a:gridCol w="922320"/>
                <a:gridCol w="7513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in schiuma 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 Riabili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 Spi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9B2F-0A38-4C27-8516-EF91575DE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0960" y="990720"/>
            <a:ext cx="81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superficie in uso per paziente e per stadiazione della le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1447920"/>
          <a:ext cx="8534520" cy="4824360"/>
        </p:xfrm>
        <a:graphic>
          <a:graphicData uri="http://schemas.openxmlformats.org/drawingml/2006/table">
            <a:tbl>
              <a:tblPr/>
              <a:tblGrid>
                <a:gridCol w="1827360"/>
                <a:gridCol w="793800"/>
                <a:gridCol w="739800"/>
                <a:gridCol w="738000"/>
                <a:gridCol w="739800"/>
                <a:gridCol w="738360"/>
                <a:gridCol w="739800"/>
                <a:gridCol w="739800"/>
                <a:gridCol w="738000"/>
                <a:gridCol w="739800"/>
              </a:tblGrid>
              <a:tr h="946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58400" y="6286680"/>
            <a:ext cx="13096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CA3D-8447-45BE-8F5B-479835907A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50400" y="1219320"/>
            <a:ext cx="68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superficie utilizzata per paziente per proven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50960"/>
          <a:ext cx="8610120" cy="4520880"/>
        </p:xfrm>
        <a:graphic>
          <a:graphicData uri="http://schemas.openxmlformats.org/drawingml/2006/table">
            <a:tbl>
              <a:tblPr/>
              <a:tblGrid>
                <a:gridCol w="1940400"/>
                <a:gridCol w="952560"/>
                <a:gridCol w="952920"/>
                <a:gridCol w="952920"/>
                <a:gridCol w="1077840"/>
                <a:gridCol w="828000"/>
                <a:gridCol w="952920"/>
                <a:gridCol w="952560"/>
              </a:tblGrid>
              <a:tr h="7650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ients with 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 Excl 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al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 senza 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m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irS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in schiuma viscoela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asso standard ospedal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884F-1036-4BD5-986A-FCEE2A481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52120" y="304920"/>
            <a:ext cx="47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iano di trattamento per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838080"/>
          <a:ext cx="7772400" cy="381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772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172200" y="2743200"/>
            <a:ext cx="2286000" cy="1922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4800600"/>
            <a:ext cx="86104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 momento della rilevazione, per « Piano adeguato » s’intendeva il riscontro nella documentazione sanitaria del pz del rischio (Norton) e la presenza di lesioni. Non si trattava cioè, di un vero e proprio piano di trat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47A3-662B-4C31-A023-632D6AD301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3400" y="38088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iano di trattamento per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447920"/>
          <a:ext cx="8356320" cy="4521240"/>
        </p:xfrm>
        <a:graphic>
          <a:graphicData uri="http://schemas.openxmlformats.org/drawingml/2006/table">
            <a:tbl>
              <a:tblPr/>
              <a:tblGrid>
                <a:gridCol w="2017440"/>
                <a:gridCol w="1584360"/>
                <a:gridCol w="1584360"/>
                <a:gridCol w="1585800"/>
                <a:gridCol w="1584360"/>
              </a:tblGrid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egu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gu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ss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8AE7-80E4-4441-86A8-85B3B4C209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98bcb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2400" y="3809880"/>
            <a:ext cx="227412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354480" y="3049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rattamento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295280"/>
          <a:ext cx="8686440" cy="4925880"/>
        </p:xfrm>
        <a:graphic>
          <a:graphicData uri="http://schemas.openxmlformats.org/drawingml/2006/table">
            <a:tbl>
              <a:tblPr/>
              <a:tblGrid>
                <a:gridCol w="2096640"/>
                <a:gridCol w="1648080"/>
                <a:gridCol w="1647000"/>
                <a:gridCol w="1648440"/>
                <a:gridCol w="1646280"/>
              </a:tblGrid>
              <a:tr h="329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i di cal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settici in argento assorb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settici no arg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m poliuret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ro - fi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rocolloi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rog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zioni non ader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zioni non aderenti all'arg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ume di poliuret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2057400" cy="192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1FD5-0A1D-487D-A653-2A1B93B586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76440" y="12193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Localizzazione della le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20600" y="1676520"/>
          <a:ext cx="7277400" cy="38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0600" y="1676520"/>
                    <a:ext cx="72774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0665-A230-4A60-AF08-B14AD49C5F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4320" y="1295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93720" y="1676520"/>
          <a:ext cx="8450280" cy="384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1676520"/>
                    <a:ext cx="845028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438280" y="1600200"/>
            <a:ext cx="3130560" cy="293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40F7-68A7-42CE-954F-578BE7967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62240" y="121932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Età dei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4400" y="1905120"/>
          <a:ext cx="7458120" cy="35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05120"/>
                    <a:ext cx="745812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E7F8-1433-46CE-B1BF-EE448C150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90040" y="12193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Incontinenza 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905120"/>
          <a:ext cx="8991720" cy="36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899172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04920" y="1143000"/>
            <a:ext cx="205884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32FE-83A4-4C5C-870E-43426088B6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Incontinenza per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EB2D-A4FC-4B48-9471-297FAD0AB2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21480" y="121932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Quale alimentazione per pazienti con LDP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66680" y="2057400"/>
          <a:ext cx="7896240" cy="300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89624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A259-26FB-4140-A991-C59A5AE238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" y="19051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azienti con LDP ammessi d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553080" y="1066680"/>
            <a:ext cx="173520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4B2C-C2D6-4918-8C4C-3BF3F44715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8600" y="1905120"/>
          <a:ext cx="8229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eso paziente – Pazienti con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14400" y="609480"/>
            <a:ext cx="2205000" cy="21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CEBF-C8F1-4B3D-B522-E59A302850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30492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Peso paziente per rep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1219320"/>
          <a:ext cx="8763120" cy="5029200"/>
        </p:xfrm>
        <a:graphic>
          <a:graphicData uri="http://schemas.openxmlformats.org/drawingml/2006/table">
            <a:tbl>
              <a:tblPr/>
              <a:tblGrid>
                <a:gridCol w="2006640"/>
                <a:gridCol w="1123920"/>
                <a:gridCol w="1128600"/>
                <a:gridCol w="1123920"/>
                <a:gridCol w="1127160"/>
                <a:gridCol w="1125720"/>
                <a:gridCol w="1127160"/>
              </a:tblGrid>
              <a:tr h="286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5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-13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-2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-8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-1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logia Riabilit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Polispecial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rurgia Vasco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ec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 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ina 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fr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op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A4DA-DE7E-414F-8CFC-BDB99FE8F2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666880" y="1447920"/>
            <a:ext cx="5445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CIDENZA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umero di persone che sviluppa una specifica patologia o condizione, come percentuale della popolazione a rischio, misurata in un certo periodo di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419720"/>
            <a:ext cx="72741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EVALENZ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umero di persone con una specifica patologia misurato in una data popolazione, in un determinato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438280" cy="24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0931-559A-4464-A11F-EDB472A7BC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635040" y="1650960"/>
          <a:ext cx="8127720" cy="4597200"/>
        </p:xfrm>
        <a:graphic>
          <a:graphicData uri="http://schemas.openxmlformats.org/drawingml/2006/table">
            <a:tbl>
              <a:tblPr/>
              <a:tblGrid>
                <a:gridCol w="1861200"/>
                <a:gridCol w="1043280"/>
                <a:gridCol w="1045440"/>
                <a:gridCol w="1043640"/>
                <a:gridCol w="1045440"/>
                <a:gridCol w="1043640"/>
                <a:gridCol w="104508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5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-13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-2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-8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-100 k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63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eumologia Riabilit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bilitazione 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nim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à Spi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30F1-9ED0-46E0-AFA2-A7339D9F0D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228600" y="1905120"/>
          <a:ext cx="8229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Mobilità paz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198756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D1D0-9768-48F3-8B5B-BE36D919E9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38080" y="1219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Cuscino da seduta per categoria di risc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905120"/>
          <a:ext cx="82296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0C4D-C172-450D-B5EB-2366FB3F35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95600" y="1219320"/>
            <a:ext cx="39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letto per tutti i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057400"/>
          <a:ext cx="86868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86868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2209680" cy="168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7233-AB34-480F-9ED3-87CBBBC27B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80880" y="121932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ipologia di letto per livello di mo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752480"/>
          <a:ext cx="8128080" cy="4216680"/>
        </p:xfrm>
        <a:graphic>
          <a:graphicData uri="http://schemas.openxmlformats.org/drawingml/2006/table">
            <a:tbl>
              <a:tblPr/>
              <a:tblGrid>
                <a:gridCol w="2059200"/>
                <a:gridCol w="2023920"/>
                <a:gridCol w="2022480"/>
                <a:gridCol w="2022480"/>
              </a:tblGrid>
              <a:tr h="701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ticol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t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ai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20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pend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s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020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127476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6C37-F388-4BB7-BAB0-F16AD42AA2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" y="304920"/>
          <a:ext cx="8610480" cy="6057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1048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5DA6-CBE7-4C96-8C81-1511F5FEEC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1066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Riepi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752480"/>
          <a:ext cx="8381520" cy="4547880"/>
        </p:xfrm>
        <a:graphic>
          <a:graphicData uri="http://schemas.openxmlformats.org/drawingml/2006/table">
            <a:tbl>
              <a:tblPr/>
              <a:tblGrid>
                <a:gridCol w="2124000"/>
                <a:gridCol w="2086560"/>
                <a:gridCol w="2084400"/>
                <a:gridCol w="2086560"/>
              </a:tblGrid>
              <a:tr h="1026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 oggetto dell’indag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tot di 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9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portatori d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LDP  rispetto al num totale dei pazien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con LDP, escl. 1° st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LDP, escluso 1° st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0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i PZ con LDP sviluppate in ospedale su 59 pazi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LDP sviluppate in osped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666880" y="304920"/>
            <a:ext cx="1322640" cy="18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6238-5315-42D0-9CFF-93BB402CD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Quali consid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381880" cy="4548240"/>
        </p:xfrm>
        <a:graphic>
          <a:graphicData uri="http://schemas.openxmlformats.org/drawingml/2006/table">
            <a:tbl>
              <a:tblPr/>
              <a:tblGrid>
                <a:gridCol w="762120"/>
                <a:gridCol w="7619760"/>
              </a:tblGrid>
              <a:tr h="1027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ni paziente ha mediamente 2 les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9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sono 17 pazienti portatori di LDP di 1 stadi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sono 42 pazienti portatori di LDP di 2-3-4 st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pazienti sono stati ammessi con LDP in 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pazienti hanno sviluppato LDP in Osped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 10%, il 6% dei pazienti sviluppano LDP in Osp, il 4% provengono dall’esterno (6: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2008080" cy="150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5DF0-46C0-49D1-8A8E-D6CA65E23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219320" y="685800"/>
          <a:ext cx="736272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73627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rovenienza LDP per sta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971800"/>
          <a:ext cx="8305560" cy="2681280"/>
        </p:xfrm>
        <a:graphic>
          <a:graphicData uri="http://schemas.openxmlformats.org/drawingml/2006/table">
            <a:tbl>
              <a:tblPr/>
              <a:tblGrid>
                <a:gridCol w="2104920"/>
                <a:gridCol w="2066760"/>
                <a:gridCol w="2067120"/>
                <a:gridCol w="2066760"/>
              </a:tblGrid>
              <a:tr h="444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04920" y="5865840"/>
            <a:ext cx="8686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</a:t>
            </a: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% maggiore si colloca nel 1-2 stadio (27 pz) (4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8288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362320" y="13712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62120" y="914400"/>
            <a:ext cx="1109520" cy="19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E28A-5962-4C98-916F-A9B78836C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9191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0440" y="22860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e di rischio (tutti i paz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91520" y="6286680"/>
            <a:ext cx="124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Garbag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371600"/>
          <a:ext cx="8458200" cy="3027240"/>
        </p:xfrm>
        <a:graphic>
          <a:graphicData uri="http://schemas.openxmlformats.org/drawingml/2006/table">
            <a:tbl>
              <a:tblPr/>
              <a:tblGrid>
                <a:gridCol w="2143080"/>
                <a:gridCol w="1050840"/>
                <a:gridCol w="1052640"/>
                <a:gridCol w="1054080"/>
                <a:gridCol w="1052280"/>
                <a:gridCol w="1052640"/>
                <a:gridCol w="1052640"/>
              </a:tblGrid>
              <a:tr h="569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chio sec. Nor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. Stot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with 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 Excl Grad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 senza l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 altissim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alt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6 medi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6 bass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28600" y="4724280"/>
            <a:ext cx="693432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</a:t>
            </a:r>
            <a:r>
              <a:rPr b="1" lang="fr-FR" sz="1800" spc="-1" strike="noStrike">
                <a:solidFill>
                  <a:srgbClr val="698bc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25 pazienti di altissimo/alto rischio hanno sviluppato L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 Ospe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7 pazienti basso/medio rischio hanno sviluppato LDP in     Ospe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2346480" cy="133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C6DE-CBC7-460E-AAB0-35348098FD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E DI RISCHIO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(tutti i pz.)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219320"/>
          <a:ext cx="8382240" cy="3448080"/>
        </p:xfrm>
        <a:graphic>
          <a:graphicData uri="http://schemas.openxmlformats.org/drawingml/2006/table">
            <a:tbl>
              <a:tblPr/>
              <a:tblGrid>
                <a:gridCol w="1309680"/>
                <a:gridCol w="785880"/>
                <a:gridCol w="785880"/>
                <a:gridCol w="785880"/>
                <a:gridCol w="785880"/>
                <a:gridCol w="785520"/>
                <a:gridCol w="785880"/>
                <a:gridCol w="785880"/>
                <a:gridCol w="785880"/>
                <a:gridCol w="785880"/>
              </a:tblGrid>
              <a:tr h="9003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chio sec. Nor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. Stot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0 altissim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2 alt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-16 medi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6 basso rischio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c5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64152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6828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i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45972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33520" y="4952880"/>
            <a:ext cx="81532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7 pazienti hanno sviluppato LDP di 1 e 2 stadio in Ospedale (46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   pazienti hanno sviuluppato LDP di 3 e 4 stadio in Ospedale (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D084-82DE-41A6-9F53-7EFAE3A2D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826640" y="1143000"/>
            <a:ext cx="69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bcb"/>
                </a:solidFill>
                <a:latin typeface="Arial"/>
              </a:rPr>
              <a:t>Tempo medio di degenza per paziente, per stadio della le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1650960"/>
          <a:ext cx="8458200" cy="4521240"/>
        </p:xfrm>
        <a:graphic>
          <a:graphicData uri="http://schemas.openxmlformats.org/drawingml/2006/table">
            <a:tbl>
              <a:tblPr/>
              <a:tblGrid>
                <a:gridCol w="1322640"/>
                <a:gridCol w="792000"/>
                <a:gridCol w="793800"/>
                <a:gridCol w="792000"/>
                <a:gridCol w="793800"/>
                <a:gridCol w="792360"/>
                <a:gridCol w="793800"/>
                <a:gridCol w="792000"/>
                <a:gridCol w="793800"/>
                <a:gridCol w="792000"/>
              </a:tblGrid>
              <a:tr h="68112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32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32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2864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e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iluppata in ospe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91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91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916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88800"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  <a:tc>
                  <a:txBody>
                    <a:bodyPr lIns="63360" rIns="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e8cdc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6240" y="6286680"/>
            <a:ext cx="114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20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720" y="6286680"/>
            <a:ext cx="126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127080" bIns="127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A.O G. Salv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149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3505320"/>
            <a:ext cx="4572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SIDERAZ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 pazienti hanno sviluppato LDP di 1 e 2 stadio in Ospedale (22%) nei primi 10 giorni di ricov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4AED-2B35-4F76-8739-8EB2344A0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7:10:47Z</dcterms:created>
  <dc:creator>Creative Powers</dc:creator>
  <dc:description/>
  <dc:language>en-US</dc:language>
  <cp:lastModifiedBy>formazione</cp:lastModifiedBy>
  <dcterms:modified xsi:type="dcterms:W3CDTF">2010-04-16T11:39:24Z</dcterms:modified>
  <cp:revision>434</cp:revision>
  <dc:subject/>
  <dc:title>Headline: Arial Bold 32pt. center justified</dc:title>
</cp:coreProperties>
</file>